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0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EC3D-BCE6-4507-A22F-7FF7BF0BF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1D26-DF1C-403B-8C36-57AEC37D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2ABC-A313-4D31-92C5-698BAB9F4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3921-7EC5-4892-AF55-87DC96E7C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1A22-FE1B-4833-A98D-D8DFDF96C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6F78-ACAA-4FFB-9CCB-34723F67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59F0-6DF0-401E-A6A1-BCA27B6D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678F-1F99-4E16-A6E6-18E42238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99FB-1B32-485D-A16B-9078B6B6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D9DC-8369-4BFD-96FA-916ABA7C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F15A-F239-4732-AF5D-423A9539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0F39-D5DC-479B-85D7-A71702EE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88A1-F4F6-4873-9FD7-4C4DA50A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F5BF-D23F-4BF2-BF18-D3582602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3416-1613-4437-80B7-6BA7FB99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176F-D710-47B7-84F8-A12B3A76C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7139-0228-4210-B0B9-879F4C269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7B80-3A61-4604-9ED4-F71632F7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50B6-6A52-477D-B9C9-25887690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CDC4-80D2-439D-BC9C-B06E898D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3D80-0226-4D53-B493-48099012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CFA4-F7A8-40B0-9E1D-B629A5CA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2C7A-6B45-4F4A-9C3A-150AFC75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F022-1CC4-48AB-957A-A194A5DE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A6D4-703B-4B80-895E-D695E57A344B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164B-6810-4F85-9F44-AFDA56A7FEB4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WordArt 5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63200" cy="6596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9"/>
          <p:cNvPicPr/>
          <p:nvPr/>
        </p:nvPicPr>
        <p:blipFill>
          <a:blip r:embed="rId2"/>
          <a:stretch/>
        </p:blipFill>
        <p:spPr>
          <a:xfrm>
            <a:off x="179280" y="4797360"/>
            <a:ext cx="2594160" cy="183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3"/>
          <p:cNvPicPr/>
          <p:nvPr/>
        </p:nvPicPr>
        <p:blipFill>
          <a:blip r:embed="rId3"/>
          <a:stretch/>
        </p:blipFill>
        <p:spPr>
          <a:xfrm>
            <a:off x="6516720" y="4797360"/>
            <a:ext cx="2374920" cy="1728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10"/>
          <p:cNvPicPr/>
          <p:nvPr/>
        </p:nvPicPr>
        <p:blipFill>
          <a:blip r:embed="rId4"/>
          <a:stretch/>
        </p:blipFill>
        <p:spPr>
          <a:xfrm>
            <a:off x="3348000" y="4005360"/>
            <a:ext cx="273672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сполнение бюджета поселения за 2 квартал 2016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1214280" y="1071720"/>
            <a:ext cx="73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государственные вопро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Содержимое 6" descr=""/>
          <p:cNvPicPr/>
          <p:nvPr/>
        </p:nvPicPr>
        <p:blipFill>
          <a:blip r:embed="rId1"/>
          <a:stretch/>
        </p:blipFill>
        <p:spPr>
          <a:xfrm>
            <a:off x="303120" y="1506600"/>
            <a:ext cx="833112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сполнение бюджета поселения за 2 квартал 2016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Овал 3"/>
          <p:cNvSpPr/>
          <p:nvPr/>
        </p:nvSpPr>
        <p:spPr>
          <a:xfrm>
            <a:off x="395280" y="1484280"/>
            <a:ext cx="8280360" cy="1728720"/>
          </a:xfrm>
          <a:prstGeom prst="ellipse">
            <a:avLst/>
          </a:prstGeom>
          <a:solidFill>
            <a:srgbClr val="7e4e9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циональная обор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расходы по субвенциям на осуществление первичного воинского учета на территориях, где отсутствуют военные комиссариат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,8 тыс. рублей (40,5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сполнение бюджета поселения за 2 квартал 2016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Овал 3"/>
          <p:cNvSpPr/>
          <p:nvPr/>
        </p:nvSpPr>
        <p:spPr>
          <a:xfrm>
            <a:off x="1382760" y="1673280"/>
            <a:ext cx="6264360" cy="1439640"/>
          </a:xfrm>
          <a:prstGeom prst="ellipse">
            <a:avLst/>
          </a:prstGeom>
          <a:solidFill>
            <a:srgbClr val="7e4e9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еспечение проведения выборов и референдум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,0 тыс. рублей (0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сполнение бюджета поселения за 2 квартал 2016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1042920" y="836640"/>
            <a:ext cx="70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еспечение проведения выборов и референдум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Диаграмма 4" descr=""/>
          <p:cNvPicPr/>
          <p:nvPr/>
        </p:nvPicPr>
        <p:blipFill>
          <a:blip r:embed="rId1"/>
          <a:stretch/>
        </p:blipFill>
        <p:spPr>
          <a:xfrm>
            <a:off x="158760" y="1341360"/>
            <a:ext cx="8886960" cy="54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сполнение бюджета поселения за 2 квартал 2016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Овал 3"/>
          <p:cNvSpPr/>
          <p:nvPr/>
        </p:nvSpPr>
        <p:spPr>
          <a:xfrm>
            <a:off x="1528920" y="1652760"/>
            <a:ext cx="6265800" cy="1441440"/>
          </a:xfrm>
          <a:prstGeom prst="ellipse">
            <a:avLst/>
          </a:prstGeom>
          <a:solidFill>
            <a:srgbClr val="7e4e9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циональная эконом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0,0 тыс. рублей (0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0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Блок-схема: альтернативный процесс 16"/>
          <p:cNvSpPr/>
          <p:nvPr/>
        </p:nvSpPr>
        <p:spPr>
          <a:xfrm>
            <a:off x="1835280" y="3429000"/>
            <a:ext cx="4968720" cy="1227240"/>
          </a:xfrm>
          <a:prstGeom prst="flowChartAlternateProcess">
            <a:avLst/>
          </a:prstGeom>
          <a:solidFill>
            <a:srgbClr val="4f4d52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орожное хозяйство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(дорожные фонды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0,0 тыс. рублей (0,0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3" name="Прямая со стрелкой 22"/>
          <p:cNvCxnSpPr>
            <a:stCxn id="131" idx="4"/>
          </p:cNvCxnSpPr>
          <p:nvPr/>
        </p:nvCxnSpPr>
        <p:spPr>
          <a:xfrm flipH="1">
            <a:off x="4642560" y="3094200"/>
            <a:ext cx="1980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4" name="Блок-схема: альтернативный процесс 33"/>
          <p:cNvSpPr/>
          <p:nvPr/>
        </p:nvSpPr>
        <p:spPr>
          <a:xfrm>
            <a:off x="2195640" y="4869000"/>
            <a:ext cx="4370400" cy="1989000"/>
          </a:xfrm>
          <a:prstGeom prst="flowChartAlternateProcess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Расходы на ремонт и содержание автомобильных дорог общего пользования местного значения в рамках подпрограммы «Развитие транспортной инфраструктуры Митякинского сельского поселения» муниципальной программы Митякинского сельского поселения «Развитие транспортной системы»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5" name="Прямая со стрелкой 34"/>
          <p:cNvCxnSpPr/>
          <p:nvPr/>
        </p:nvCxnSpPr>
        <p:spPr>
          <a:xfrm>
            <a:off x="4140000" y="465300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5"/>
          <p:cNvSpPr/>
          <p:nvPr/>
        </p:nvSpPr>
        <p:spPr>
          <a:xfrm>
            <a:off x="158760" y="25560"/>
            <a:ext cx="871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сполнение бюджета поселения за 2 квартал 2016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Box 5"/>
          <p:cNvSpPr/>
          <p:nvPr/>
        </p:nvSpPr>
        <p:spPr>
          <a:xfrm>
            <a:off x="571680" y="121428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циональная эконом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Диаграмма 4" descr=""/>
          <p:cNvPicPr/>
          <p:nvPr/>
        </p:nvPicPr>
        <p:blipFill>
          <a:blip r:embed="rId1"/>
          <a:stretch/>
        </p:blipFill>
        <p:spPr>
          <a:xfrm>
            <a:off x="1281240" y="1938240"/>
            <a:ext cx="619740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сполнение бюджета поселения за 2 квартал 2016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Овал 3"/>
          <p:cNvSpPr/>
          <p:nvPr/>
        </p:nvSpPr>
        <p:spPr>
          <a:xfrm>
            <a:off x="1403280" y="1125360"/>
            <a:ext cx="6265800" cy="1438560"/>
          </a:xfrm>
          <a:prstGeom prst="ellipse">
            <a:avLst/>
          </a:prstGeom>
          <a:solidFill>
            <a:srgbClr val="7e4e9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Жилищно-коммунальное хозяй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14,6тыс. рублей (9,2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Блок-схема: альтернативный процесс 18"/>
          <p:cNvSpPr/>
          <p:nvPr/>
        </p:nvSpPr>
        <p:spPr>
          <a:xfrm>
            <a:off x="2771640" y="4221000"/>
            <a:ext cx="3888000" cy="2232360"/>
          </a:xfrm>
          <a:prstGeom prst="flowChartAlternateProcess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Расходы по техническому обслуживанию газопроводов в рамках подпрограммы «Создание условий для обеспечения качественными жилищно-коммунальными услугами населения Митякинского сельского поселения» муниципальной программы «Обеспечение качественными услугами населения Митякинского сельского поселения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0,6 тыс. рублей (0,04 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Блок-схема: альтернативный процесс 33"/>
          <p:cNvSpPr/>
          <p:nvPr/>
        </p:nvSpPr>
        <p:spPr>
          <a:xfrm>
            <a:off x="5148360" y="2852640"/>
            <a:ext cx="2786040" cy="744480"/>
          </a:xfrm>
          <a:prstGeom prst="flowChartAlternateProcess">
            <a:avLst/>
          </a:prstGeom>
          <a:solidFill>
            <a:srgbClr val="4f4d52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0f0"/>
                </a:solidFill>
                <a:latin typeface="Times New Roman"/>
              </a:rPr>
              <a:t>Коммунальное хозяйств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0f0"/>
                </a:solidFill>
                <a:latin typeface="Times New Roman"/>
              </a:rPr>
              <a:t>6,2 тыс. рублей (41,3 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3" name="Прямая со стрелкой 34"/>
          <p:cNvCxnSpPr>
            <a:stCxn id="140" idx="6"/>
            <a:endCxn id="142" idx="0"/>
          </p:cNvCxnSpPr>
          <p:nvPr/>
        </p:nvCxnSpPr>
        <p:spPr>
          <a:xfrm flipH="1">
            <a:off x="6541200" y="1844640"/>
            <a:ext cx="112788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4" name="Блок-схема: альтернативный процесс 52"/>
          <p:cNvSpPr/>
          <p:nvPr/>
        </p:nvSpPr>
        <p:spPr>
          <a:xfrm>
            <a:off x="395280" y="2708280"/>
            <a:ext cx="2787480" cy="930240"/>
          </a:xfrm>
          <a:prstGeom prst="flowChartAlternateProcess">
            <a:avLst/>
          </a:prstGeom>
          <a:solidFill>
            <a:srgbClr val="4f4d52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0f0"/>
                </a:solidFill>
                <a:latin typeface="Times New Roman"/>
              </a:rPr>
              <a:t>Благоустройство 8,4</a:t>
            </a:r>
            <a:r>
              <a:rPr b="0" lang="ru-RU" sz="1400" spc="-1" strike="noStrike">
                <a:solidFill>
                  <a:srgbClr val="00b0f0"/>
                </a:solidFill>
                <a:latin typeface="Times New Roman"/>
              </a:rPr>
              <a:t> тыс. рублей (5,9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5" name="Прямая со стрелкой 53"/>
          <p:cNvCxnSpPr>
            <a:stCxn id="140" idx="4"/>
            <a:endCxn id="144" idx="0"/>
          </p:cNvCxnSpPr>
          <p:nvPr/>
        </p:nvCxnSpPr>
        <p:spPr>
          <a:xfrm flipH="1">
            <a:off x="1788480" y="2563560"/>
            <a:ext cx="274860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" name="Прямая со стрелкой 17415"/>
          <p:cNvCxnSpPr>
            <a:stCxn id="144" idx="2"/>
          </p:cNvCxnSpPr>
          <p:nvPr/>
        </p:nvCxnSpPr>
        <p:spPr>
          <a:xfrm>
            <a:off x="1788840" y="3638160"/>
            <a:ext cx="1080" cy="14220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47" name="Соединительная линия уступом 19"/>
          <p:cNvCxnSpPr>
            <a:endCxn id="141" idx="3"/>
          </p:cNvCxnSpPr>
          <p:nvPr/>
        </p:nvCxnSpPr>
        <p:spPr>
          <a:xfrm rot="5400000">
            <a:off x="5955840" y="4348080"/>
            <a:ext cx="1692720" cy="286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Блок-схема: альтернативный процесс 52"/>
          <p:cNvSpPr/>
          <p:nvPr/>
        </p:nvSpPr>
        <p:spPr>
          <a:xfrm>
            <a:off x="2770200" y="836640"/>
            <a:ext cx="3529080" cy="1219320"/>
          </a:xfrm>
          <a:prstGeom prst="flowChartAlternateProcess">
            <a:avLst/>
          </a:prstGeom>
          <a:solidFill>
            <a:srgbClr val="4f4d52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</a:rPr>
              <a:t>Благоустройств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imes New Roman"/>
              </a:rPr>
              <a:t>8,4 тыс. рублей (93,3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9" name="Прямая со стрелкой 53"/>
          <p:cNvCxnSpPr>
            <a:endCxn id="150" idx="0"/>
          </p:cNvCxnSpPr>
          <p:nvPr/>
        </p:nvCxnSpPr>
        <p:spPr>
          <a:xfrm>
            <a:off x="7019640" y="187920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1" name="Блок-схема: альтернативный процесс 20"/>
          <p:cNvSpPr/>
          <p:nvPr/>
        </p:nvSpPr>
        <p:spPr>
          <a:xfrm>
            <a:off x="0" y="2492280"/>
            <a:ext cx="3095640" cy="3745080"/>
          </a:xfrm>
          <a:prstGeom prst="flowChartAlternateProcess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Расходы на содержание и текущий ремонт мест захоронения на территории Митякинского сельского поселения в рамках подпрограммы «Организация благоустройства территории Митякинского сельского поселения» муниципальной программы «Обеспечение качественными жилищно-коммунальными услугами населения Митякинского сельского поселения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8,4 тыс. рублей (93,3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Блок-схема: альтернативный процесс 21"/>
          <p:cNvSpPr/>
          <p:nvPr/>
        </p:nvSpPr>
        <p:spPr>
          <a:xfrm>
            <a:off x="5651640" y="2239920"/>
            <a:ext cx="2736720" cy="3816360"/>
          </a:xfrm>
          <a:prstGeom prst="flowChartAlternateProcess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Расходы на благоустройство территории Митякинского сельского поселения в рамках подпрограммы «Организация благоустройства территории Митякинского сельского поселения» муниципальной программы «Обеспечение качественными жилищно-коммунальными услугами населения Митякинского сельского поселения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0,0 тыс. рублей (0,0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2" name="Прямая со стрелкой 16"/>
          <p:cNvCxnSpPr/>
          <p:nvPr/>
        </p:nvCxnSpPr>
        <p:spPr>
          <a:xfrm flipH="1">
            <a:off x="1402560" y="1474920"/>
            <a:ext cx="1367640" cy="101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3" name="Прямая со стрелкой 22"/>
          <p:cNvCxnSpPr>
            <a:endCxn id="148" idx="0"/>
          </p:cNvCxnSpPr>
          <p:nvPr/>
        </p:nvCxnSpPr>
        <p:spPr>
          <a:xfrm>
            <a:off x="4535280" y="0"/>
            <a:ext cx="108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сполнение бюджета поселения за 2 квартал 2016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1428840" y="836640"/>
            <a:ext cx="51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лагоустрой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Диаграмма 4" descr=""/>
          <p:cNvPicPr/>
          <p:nvPr/>
        </p:nvPicPr>
        <p:blipFill>
          <a:blip r:embed="rId1"/>
          <a:stretch/>
        </p:blipFill>
        <p:spPr>
          <a:xfrm>
            <a:off x="272880" y="1346040"/>
            <a:ext cx="881388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сполнение бюджета поселения за 2 квартал 2016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Овал 3"/>
          <p:cNvSpPr/>
          <p:nvPr/>
        </p:nvSpPr>
        <p:spPr>
          <a:xfrm>
            <a:off x="1528920" y="1214280"/>
            <a:ext cx="6265800" cy="1571760"/>
          </a:xfrm>
          <a:prstGeom prst="ellipse">
            <a:avLst/>
          </a:prstGeom>
          <a:solidFill>
            <a:srgbClr val="7e4e9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Культура, кинематограф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749,7 тыс. рублей (39,2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Блок-схема: альтернативный процесс 16"/>
          <p:cNvSpPr/>
          <p:nvPr/>
        </p:nvSpPr>
        <p:spPr>
          <a:xfrm>
            <a:off x="3203640" y="2924280"/>
            <a:ext cx="2397240" cy="1071360"/>
          </a:xfrm>
          <a:prstGeom prst="flowChartAlternateProcess">
            <a:avLst/>
          </a:prstGeom>
          <a:solidFill>
            <a:srgbClr val="4f4d52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ульту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749,7 тыс. рублей (39,2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0" name="Прямая со стрелкой 22"/>
          <p:cNvCxnSpPr>
            <a:endCxn id="159" idx="0"/>
          </p:cNvCxnSpPr>
          <p:nvPr/>
        </p:nvCxnSpPr>
        <p:spPr>
          <a:xfrm flipH="1">
            <a:off x="4401360" y="2781000"/>
            <a:ext cx="262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1" name="Скругленный прямоугольник 13"/>
          <p:cNvSpPr/>
          <p:nvPr/>
        </p:nvSpPr>
        <p:spPr>
          <a:xfrm>
            <a:off x="1042920" y="4292640"/>
            <a:ext cx="7345440" cy="187308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Расходы на обеспечение деятельности (оказание услуг) муниципальных бюджетных учреждений Митякинского сельского поселения, в том числе на предоставление субсидий муниципальным бюджетным учреждениям Митякинского сельского поселения в рамках подпрограммы «Развитие культуры» муниципальной программы Митякинского сельского поселения «Развитие культуры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29,2 тыс.рублей (19,3 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2" name="Прямая со стрелкой 24"/>
          <p:cNvCxnSpPr>
            <a:stCxn id="159" idx="2"/>
            <a:endCxn id="161" idx="0"/>
          </p:cNvCxnSpPr>
          <p:nvPr/>
        </p:nvCxnSpPr>
        <p:spPr>
          <a:xfrm>
            <a:off x="4401720" y="3995280"/>
            <a:ext cx="315000" cy="297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3"/>
          <p:cNvSpPr/>
          <p:nvPr/>
        </p:nvSpPr>
        <p:spPr>
          <a:xfrm>
            <a:off x="84240" y="44280"/>
            <a:ext cx="9037440" cy="1191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Исполнение бюджета  муниципального образования  «Митякинское сельское поселени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за 2 квартал  2016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0" y="1244520"/>
            <a:ext cx="9037800" cy="53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ция подготовлена на основан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я Собрания депутатов Митякинского сельского поселения от 21.12.2015 №24 «О бюджете Митякинского сельского  поселения Тарасовского района на 2016 год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я Собрания депутатов Митякинского сельского поселения от 02.03.2016 №5 «О внесении изменений в решение Собрания депутатов Митякинского сельского поселения от 21.12.2015 №24 «О бюджете Митякинского сельского  поселения Тарасовского района на 2016 год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я Собрания депутатов Митякинского сельского поселения от 29.04.2016 №7 «О внесении изменений в решение Собрания депутатов Митякинского сельского поселения от 21.12.2015 №24 «О бюджете Митякинского сельского  поселения Тарасовского района на 2016 год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я Собрания депутатов Митякинского сельского поселения от 26.05.2016 №11 «О внесении изменений в решение Собрания депутатов Митякинского сельского поселения от 21.12.2015 №24 «О бюджете Митякинского сельского  поселения Тарасовского района на 2016 год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я Собрания депутатов Митякинского сельского поселения от 27.06.2016 №16 «О внесении изменений в решение Собрания депутатов Митякинского сельского поселения от 21.12.2015 №24 «О бюджете Митякинского сельского  поселения Тарасовского района на 2016 год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ктор экономики и финансов админи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итякинского сельского пос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сполнение бюджета поселения за 2 квартал 2016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Box 4"/>
          <p:cNvSpPr/>
          <p:nvPr/>
        </p:nvSpPr>
        <p:spPr>
          <a:xfrm>
            <a:off x="785880" y="76500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ультура, кинематограф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Диаграмма 4" descr=""/>
          <p:cNvPicPr/>
          <p:nvPr/>
        </p:nvPicPr>
        <p:blipFill>
          <a:blip r:embed="rId1"/>
          <a:stretch/>
        </p:blipFill>
        <p:spPr>
          <a:xfrm>
            <a:off x="-50760" y="1346040"/>
            <a:ext cx="935352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ые межбюджетные трансферт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0,0 тыс. рубл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3"/>
          <p:cNvSpPr/>
          <p:nvPr/>
        </p:nvSpPr>
        <p:spPr>
          <a:xfrm>
            <a:off x="179280" y="44280"/>
            <a:ext cx="88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новные параметры бюджета Митякинского сельского поселения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ельского пос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 2016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1000080"/>
          <a:ext cx="8640720" cy="2857680"/>
        </p:xfrm>
        <a:graphic>
          <a:graphicData uri="http://schemas.openxmlformats.org/drawingml/2006/table">
            <a:tbl>
              <a:tblPr/>
              <a:tblGrid>
                <a:gridCol w="4319640"/>
                <a:gridCol w="4321080"/>
              </a:tblGrid>
              <a:tr h="71460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543466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2d5a3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543466"/>
                          </a:solidFill>
                          <a:latin typeface="Times New Roman"/>
                          <a:ea typeface="Times New Roman"/>
                        </a:rPr>
                        <a:t>2016 го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2d5a3"/>
                    </a:solidFill>
                  </a:tcPr>
                </a:tc>
              </a:tr>
              <a:tr h="71424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543466"/>
                          </a:solidFill>
                          <a:latin typeface="Times New Roman"/>
                          <a:ea typeface="Times New Roman"/>
                        </a:rPr>
                        <a:t>Доходы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d5a3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467,2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</a:tr>
              <a:tr h="71424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5434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d5a3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730,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</a:tr>
              <a:tr h="71460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543466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d5a3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1 263,3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</a:tr>
            </a:tbl>
          </a:graphicData>
        </a:graphic>
      </p:graphicFrame>
      <p:sp>
        <p:nvSpPr>
          <p:cNvPr id="90" name="Прямоугольник 5"/>
          <p:cNvSpPr/>
          <p:nvPr/>
        </p:nvSpPr>
        <p:spPr>
          <a:xfrm>
            <a:off x="179280" y="402912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ми источниками финансирования дефицита бюджета поселения в 2016 году является изменение остатков на счетах по учёту средств бюдже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оугольник 11"/>
          <p:cNvSpPr/>
          <p:nvPr/>
        </p:nvSpPr>
        <p:spPr>
          <a:xfrm>
            <a:off x="179280" y="544500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ическое исполнение бюджета Митякинского сельского поселения за 2 квартал  2016 года составило по доходам в сумме 5 312,5тыс. рублей (56,1% от уточнённого плана) и по расходам в сумме 3 102,8 тыс. рублей (28,9 % от уточненного план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5"/>
          <p:cNvSpPr/>
          <p:nvPr/>
        </p:nvSpPr>
        <p:spPr>
          <a:xfrm>
            <a:off x="108000" y="260280"/>
            <a:ext cx="89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бюджета по доходам за 2 квартал 2016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50920" y="785880"/>
          <a:ext cx="8642160" cy="7026120"/>
        </p:xfrm>
        <a:graphic>
          <a:graphicData uri="http://schemas.openxmlformats.org/drawingml/2006/table">
            <a:tbl>
              <a:tblPr/>
              <a:tblGrid>
                <a:gridCol w="5189400"/>
                <a:gridCol w="1266840"/>
                <a:gridCol w="1150920"/>
                <a:gridCol w="1035000"/>
              </a:tblGrid>
              <a:tr h="71100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ход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 на 2016г., тыс.рубле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1 квартал., тыс.рубле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исполнения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3048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 724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2 795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59,1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15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1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36540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ИЗЫ ПО ПОДАКЦИЗНЫМ ТОВАРАМ (ПРОДУКЦИИ), ПРОИЗВОДИМЫМ НА ТЕРРИТОРИИ РОССИЙСКОЙ ФЕДЕР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210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26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9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,4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304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10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1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АЯ ПОШЛИ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5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3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4939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,2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7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664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ПРОДАЖИ МАТЕРИАЛЬНЫХ И НЕМАТЕРИАЛЬНЫХ АКТИВ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7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556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Ы, САНКЦИИ, ВОЗМЕЩЕНИЕ УЩЕРБ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556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НЕНАЛОГОВЫЕ ДОХО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329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488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4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3556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тации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19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8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556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венции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,0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8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6540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сидии на софинансирование повышения заработной платы работникам муниципальных учреждений культур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32940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ХО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467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312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,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оугольник 3"/>
          <p:cNvGrpSpPr/>
          <p:nvPr/>
        </p:nvGrpSpPr>
        <p:grpSpPr>
          <a:xfrm>
            <a:off x="-122400" y="30240"/>
            <a:ext cx="9394920" cy="920520"/>
            <a:chOff x="-122400" y="30240"/>
            <a:chExt cx="9394920" cy="920520"/>
          </a:xfrm>
        </p:grpSpPr>
        <p:pic>
          <p:nvPicPr>
            <p:cNvPr id="95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-122400" y="30240"/>
              <a:ext cx="939492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12680" y="260280"/>
              <a:ext cx="892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Основные направления по доходам за 2 квартал 2016 го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7" name="Диаграмма 3" descr=""/>
          <p:cNvPicPr/>
          <p:nvPr/>
        </p:nvPicPr>
        <p:blipFill>
          <a:blip r:embed="rId2"/>
          <a:stretch/>
        </p:blipFill>
        <p:spPr>
          <a:xfrm>
            <a:off x="237960" y="838080"/>
            <a:ext cx="864900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3"/>
          <p:cNvSpPr/>
          <p:nvPr/>
        </p:nvSpPr>
        <p:spPr>
          <a:xfrm>
            <a:off x="250920" y="352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бюджета по расходам за 2 квартал 2016 го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92240" y="857160"/>
          <a:ext cx="8843760" cy="4218120"/>
        </p:xfrm>
        <a:graphic>
          <a:graphicData uri="http://schemas.openxmlformats.org/drawingml/2006/table">
            <a:tbl>
              <a:tblPr/>
              <a:tblGrid>
                <a:gridCol w="5316480"/>
                <a:gridCol w="431640"/>
                <a:gridCol w="358920"/>
                <a:gridCol w="288720"/>
                <a:gridCol w="936720"/>
                <a:gridCol w="934920"/>
                <a:gridCol w="576360"/>
              </a:tblGrid>
              <a:tr h="113976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Ве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Рз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Уточненный план на 2016г., тыс.рубл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2 квартал, тыс.рубл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% испол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нен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5 814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2 267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3654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Функционирование высшего должностного лица субъекта Российской Федерации и муниципального образова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78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323,9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5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6238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3 603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 461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5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Обеспечение проведения выборов и референдум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382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Другие общегосударственные вопрос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 048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482,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74,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70,8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Мобилизационная  и вневойсковая подготов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74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70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2 669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е хозяйство (дорожные фонды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669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214200" y="214200"/>
          <a:ext cx="8812440" cy="3141720"/>
        </p:xfrm>
        <a:graphic>
          <a:graphicData uri="http://schemas.openxmlformats.org/drawingml/2006/table">
            <a:tbl>
              <a:tblPr/>
              <a:tblGrid>
                <a:gridCol w="4929480"/>
                <a:gridCol w="571320"/>
                <a:gridCol w="357120"/>
                <a:gridCol w="428760"/>
                <a:gridCol w="1023840"/>
                <a:gridCol w="934920"/>
                <a:gridCol w="567000"/>
              </a:tblGrid>
              <a:tr h="127800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Ве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Рз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Уточненный план на 2016г.,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2 квартал, тыс. рубл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% испол-нен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2667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58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4,6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,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664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Коммунальное  хозяй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41,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667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Благоустрой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43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8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664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Культура, кинематограф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 912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749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39,2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664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Культур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 912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749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39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667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</a:tr>
              <a:tr h="2642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0 730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3 102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28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5"/>
          <p:cNvSpPr/>
          <p:nvPr/>
        </p:nvSpPr>
        <p:spPr>
          <a:xfrm>
            <a:off x="184320" y="260280"/>
            <a:ext cx="87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сновные направления по расход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 2 квартал 2016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Содержимое 5" descr=""/>
          <p:cNvPicPr/>
          <p:nvPr/>
        </p:nvPicPr>
        <p:blipFill>
          <a:blip r:embed="rId1"/>
          <a:stretch/>
        </p:blipFill>
        <p:spPr>
          <a:xfrm>
            <a:off x="371520" y="1562040"/>
            <a:ext cx="81630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сполнение бюджета поселения за 2 квартал 2016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Овал 3"/>
          <p:cNvSpPr/>
          <p:nvPr/>
        </p:nvSpPr>
        <p:spPr>
          <a:xfrm>
            <a:off x="1714680" y="1071720"/>
            <a:ext cx="6002280" cy="1439640"/>
          </a:xfrm>
          <a:prstGeom prst="ellipse">
            <a:avLst/>
          </a:prstGeom>
          <a:solidFill>
            <a:srgbClr val="7e4e9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Общегосударственные вопрос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(содержание органа местного самоуправлени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2 267,7 тыс. рублей (39,0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Блок-схема: альтернативный процесс 4"/>
          <p:cNvSpPr/>
          <p:nvPr/>
        </p:nvSpPr>
        <p:spPr>
          <a:xfrm>
            <a:off x="142920" y="2538360"/>
            <a:ext cx="3044880" cy="1542960"/>
          </a:xfrm>
          <a:prstGeom prst="flowChartAlternateProcess">
            <a:avLst/>
          </a:prstGeom>
          <a:solidFill>
            <a:srgbClr val="4f4d52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Функционирование высшего должностного лица субъекта Российской Федерации и муниципального образов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23,9 тыс. рублей (41,5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Блок-схема: альтернативный процесс 7"/>
          <p:cNvSpPr/>
          <p:nvPr/>
        </p:nvSpPr>
        <p:spPr>
          <a:xfrm>
            <a:off x="3348000" y="2790720"/>
            <a:ext cx="2664000" cy="2202120"/>
          </a:xfrm>
          <a:prstGeom prst="flowChartAlternateProcess">
            <a:avLst/>
          </a:prstGeom>
          <a:solidFill>
            <a:srgbClr val="4f4d52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 461,7 тыс. рублей (40,6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Блок-схема: альтернативный процесс 8"/>
          <p:cNvSpPr/>
          <p:nvPr/>
        </p:nvSpPr>
        <p:spPr>
          <a:xfrm>
            <a:off x="6156360" y="2565360"/>
            <a:ext cx="2879640" cy="971640"/>
          </a:xfrm>
          <a:prstGeom prst="flowChartAlternateProcess">
            <a:avLst/>
          </a:prstGeom>
          <a:solidFill>
            <a:srgbClr val="4f4d52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ругие общегосударственные вопрос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482,1 тыс. рублей (46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Блок-схема: процесс 5"/>
          <p:cNvSpPr/>
          <p:nvPr/>
        </p:nvSpPr>
        <p:spPr>
          <a:xfrm>
            <a:off x="517680" y="4508640"/>
            <a:ext cx="2663640" cy="969840"/>
          </a:xfrm>
          <a:prstGeom prst="flowChartProcess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лава муниципального образов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23,9 тыс. рублей (41,5%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Блок-схема: процесс 11"/>
          <p:cNvSpPr/>
          <p:nvPr/>
        </p:nvSpPr>
        <p:spPr>
          <a:xfrm>
            <a:off x="3492360" y="5546880"/>
            <a:ext cx="2374920" cy="1122120"/>
          </a:xfrm>
          <a:prstGeom prst="flowChartProcess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Центральный аппарат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 461,7 тыс. рублей (40,6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Блок-схема: процесс 12"/>
          <p:cNvSpPr/>
          <p:nvPr/>
        </p:nvSpPr>
        <p:spPr>
          <a:xfrm>
            <a:off x="6227640" y="3716280"/>
            <a:ext cx="2808360" cy="1479600"/>
          </a:xfrm>
          <a:prstGeom prst="flowChartProcess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еализация направления расходов в рамках муниципальной программы «Информационное общество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78,3 тыс. рублей (30,5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1" name="Прямая со стрелкой 6"/>
          <p:cNvCxnSpPr>
            <a:stCxn id="104" idx="3"/>
            <a:endCxn id="105" idx="0"/>
          </p:cNvCxnSpPr>
          <p:nvPr/>
        </p:nvCxnSpPr>
        <p:spPr>
          <a:xfrm flipH="1">
            <a:off x="1664640" y="2300040"/>
            <a:ext cx="929160" cy="238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Прямая со стрелкой 14"/>
          <p:cNvCxnSpPr>
            <a:stCxn id="104" idx="4"/>
            <a:endCxn id="106" idx="0"/>
          </p:cNvCxnSpPr>
          <p:nvPr/>
        </p:nvCxnSpPr>
        <p:spPr>
          <a:xfrm flipH="1">
            <a:off x="4679280" y="2511360"/>
            <a:ext cx="3564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Прямая со стрелкой 17"/>
          <p:cNvCxnSpPr>
            <a:stCxn id="104" idx="5"/>
            <a:endCxn id="107" idx="0"/>
          </p:cNvCxnSpPr>
          <p:nvPr/>
        </p:nvCxnSpPr>
        <p:spPr>
          <a:xfrm>
            <a:off x="6837480" y="2300400"/>
            <a:ext cx="759600" cy="26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Прямая со стрелкой 33"/>
          <p:cNvCxnSpPr/>
          <p:nvPr/>
        </p:nvCxnSpPr>
        <p:spPr>
          <a:xfrm>
            <a:off x="324000" y="4941360"/>
            <a:ext cx="194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Прямая со стрелкой 44"/>
          <p:cNvCxnSpPr>
            <a:stCxn id="106" idx="2"/>
            <a:endCxn id="109" idx="0"/>
          </p:cNvCxnSpPr>
          <p:nvPr/>
        </p:nvCxnSpPr>
        <p:spPr>
          <a:xfrm>
            <a:off x="4679640" y="4992480"/>
            <a:ext cx="1080" cy="554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6" name="Соединительная линия уступом 17408"/>
          <p:cNvCxnSpPr/>
          <p:nvPr/>
        </p:nvCxnSpPr>
        <p:spPr>
          <a:xfrm flipH="1">
            <a:off x="7740000" y="357336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7" name="Прямая соединительная линия 35"/>
          <p:cNvSpPr/>
          <p:nvPr/>
        </p:nvSpPr>
        <p:spPr>
          <a:xfrm>
            <a:off x="324000" y="4149720"/>
            <a:ext cx="0" cy="792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оугольник 18"/>
          <p:cNvSpPr/>
          <p:nvPr/>
        </p:nvSpPr>
        <p:spPr>
          <a:xfrm>
            <a:off x="5940360" y="5589720"/>
            <a:ext cx="3095640" cy="115236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еализация направления расходов в рамках муниципальной программы «Муниципальная политика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6,0 тыс. рублей (100,0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9" name="Прямая со стрелкой 20"/>
          <p:cNvCxnSpPr/>
          <p:nvPr/>
        </p:nvCxnSpPr>
        <p:spPr>
          <a:xfrm flipH="1">
            <a:off x="6732720" y="3645000"/>
            <a:ext cx="576360" cy="194544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09:03:10Z</dcterms:created>
  <dc:creator>М.О. Косоротова</dc:creator>
  <dc:description/>
  <dc:language>en-US</dc:language>
  <cp:lastModifiedBy>W7</cp:lastModifiedBy>
  <dcterms:modified xsi:type="dcterms:W3CDTF">2016-08-22T09:21:50Z</dcterms:modified>
  <cp:revision>30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